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92F4-CDD8-414A-B997-46E72B50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82D1-9BB5-47AC-90F6-B7567949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F97D-08BC-4137-A58E-DAEA50FF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AC73-A8BC-4B42-B0B5-AE46107A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09E0-991B-4AF8-A705-1B7217C0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2759-A34A-430E-A83B-7E4E2E11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DA7B-4450-49F8-9384-3A6EBC6E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AA7A-4952-41B2-B942-FD63E95E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AD3F-5B08-4DA4-8CD5-AFBCFBBE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6E5F-E957-41BE-A679-5DCC40D5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2D64-DBC6-4B48-BE2C-82C14754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1846-A245-4F40-8E7C-68DD3CBB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52E4-F5DA-43A7-BAF1-B221F670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0D88-6EEC-4BDA-BD22-93BD7378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32C0-15D6-4C81-B9C2-75C3CBD3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5C38-D66D-4FED-972F-D418FCC0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46B4-91F1-48B7-914C-F9CB2886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1693-AAC3-43C4-A25F-A985019F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E184-CBE0-4E00-9FAC-3053B680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228B-8774-4238-9D2B-2BF13975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2844C-1EDE-4733-81B0-BD258670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573F-7368-4498-8907-5F23DF37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BBB5-716B-4C4A-B6AC-2FB6A304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2C8C-AFE9-41FB-94CF-200FC292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39AD-7A39-427F-BA0C-A4D2CCD992D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BC54-7C99-43CB-8828-29FDA691B1C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655200"/>
            <a:ext cx="11279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ветъл облак полет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купителят блажен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оя Дух на таз зем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ри до последний д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903240" y="2153520"/>
            <a:ext cx="730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ш Водител и Друга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докрай да ни теш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дъхна Бог тоз ценен дар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отпаднали душ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7600" y="1777680"/>
            <a:ext cx="78516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ятост, правда, чисто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дъхни нам, о, Боже свят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ята мир и любов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във нас да се вселя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08:53Z</dcterms:modified>
  <cp:revision>6</cp:revision>
  <dc:subject/>
  <dc:title>Slide 1</dc:title>
</cp:coreProperties>
</file>